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6.png" ContentType="image/png"/>
  <Override PartName="/ppt/media/image14.jpeg" ContentType="image/jpeg"/>
  <Override PartName="/ppt/media/image9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jpeg" ContentType="image/jpeg"/>
  <Override PartName="/ppt/media/applause.wav" ContentType="audio/x-wav"/>
  <Override PartName="/ppt/media/image6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11C9-70B9-483E-B142-112409F6E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A651-6CED-4ADF-866F-1847410FB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4BBD-9B9E-4A1B-8C33-45CFF8F9D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28DC-CF60-4426-84DA-50329B313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90457-ED5C-4D60-8F52-6723B45EA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A09EF-48FD-4873-81D6-3F73A80C9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47AA4-866B-4F0F-A490-57F7412CE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52E70-1247-48AB-ADD1-83BC24A84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F55C7-4D24-4CAE-80B5-D79FD1730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94A16-AC07-47F1-AC6C-ACA62573B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156E7-EE92-421F-AAE0-2554A4F0C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250B-56FB-4A0A-AAD6-659B1B84A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4AD87-5D7C-4835-9B6F-02DA289E9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A519A-FE77-4A81-B95B-29952E337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532F3-A118-4576-9F89-D86B00E35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D22A4-9921-487F-854F-BDB260348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77215-B502-4F98-843F-E867410DC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FECD-D69F-496F-9C73-5E4B63C4C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4ABA-B779-41A0-891B-78119956F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58ED-885F-449D-83AF-9CA2DD5BB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2F4A-D7B5-45E8-9E01-FF7E7B60E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6B49-9A4E-4392-8AEC-1281CC5A6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FF18-D390-4E6F-8797-003CC09B7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7C99-1293-45A8-8D5D-AC3353073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E8EA4-E01D-4B0C-BC1D-45F0EA58651F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3F16B-7053-454F-B04B-6ED6D080E340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12.xml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15.xml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18.xml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image" Target="../media/image14.jpeg"/><Relationship Id="rId6" Type="http://schemas.openxmlformats.org/officeDocument/2006/relationships/image" Target="../media/image15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6.xml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9.xml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6633"/>
                </a:solidFill>
                <a:latin typeface="Garamond"/>
              </a:rPr>
              <a:t>Insects or Spiders?</a:t>
            </a:r>
            <a:endParaRPr b="0" lang="en-US" sz="8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icture quiz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Rebecca Prune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6934320" y="5970600"/>
            <a:ext cx="1771560" cy="7430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aramond"/>
              </a:rPr>
              <a:t>Correct !!!</a:t>
            </a:r>
            <a:r>
              <a:rPr b="0" lang="en-US" sz="6000" spc="-1" strike="noStrike">
                <a:solidFill>
                  <a:srgbClr val="63032c"/>
                </a:solidFill>
                <a:latin typeface="Garamond"/>
              </a:rPr>
              <a:t>    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rcRect l="33922" t="0" r="0" b="6360"/>
          <a:stretch/>
        </p:blipFill>
        <p:spPr>
          <a:xfrm>
            <a:off x="1447920" y="1143000"/>
            <a:ext cx="6248160" cy="49896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086600" y="5791320"/>
            <a:ext cx="1857240" cy="7794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" dur="1" fill="hold"/>
                                        <p:tgtEl>
                                          <p:spTgt spid="1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9" presetSubtype="1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aramond"/>
              </a:rPr>
              <a:t>Try Again </a:t>
            </a:r>
            <a:r>
              <a:rPr b="0" lang="en-US" sz="6000" spc="-1" strike="noStrike">
                <a:solidFill>
                  <a:srgbClr val="63032c"/>
                </a:solidFill>
                <a:latin typeface="Garamond"/>
              </a:rPr>
              <a:t>    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3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666960" y="224172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33"/>
                </a:solidFill>
                <a:latin typeface="Garamond"/>
              </a:rPr>
              <a:t>Is this a spider or an insect?</a:t>
            </a:r>
            <a:endParaRPr b="0" lang="en-US" sz="5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633"/>
                </a:solidFill>
                <a:latin typeface="Arial"/>
              </a:rPr>
              <a:t>Click on the Right Answ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019920" y="3200400"/>
            <a:ext cx="11998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Insect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6019920" y="4572000"/>
            <a:ext cx="12380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pider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9599" t="19124" r="3200" b="30598"/>
          <a:stretch/>
        </p:blipFill>
        <p:spPr>
          <a:xfrm>
            <a:off x="1001880" y="2457360"/>
            <a:ext cx="4251240" cy="20527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1" fill="hold"/>
                                        <p:tgtEl>
                                          <p:spTgt spid="1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aramond"/>
              </a:rPr>
              <a:t>Correct !!!</a:t>
            </a:r>
            <a:r>
              <a:rPr b="0" lang="en-US" sz="6000" spc="-1" strike="noStrike">
                <a:solidFill>
                  <a:srgbClr val="63032c"/>
                </a:solidFill>
                <a:latin typeface="Garamond"/>
              </a:rPr>
              <a:t>    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33922" t="0" r="0" b="6360"/>
          <a:stretch/>
        </p:blipFill>
        <p:spPr>
          <a:xfrm>
            <a:off x="1447920" y="1143000"/>
            <a:ext cx="6248160" cy="49896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010280" y="5791320"/>
            <a:ext cx="1770120" cy="7412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1" fill="hold"/>
                                        <p:tgtEl>
                                          <p:spTgt spid="1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9" presetSubtype="1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aramond"/>
              </a:rPr>
              <a:t>Try Again </a:t>
            </a:r>
            <a:r>
              <a:rPr b="0" lang="en-US" sz="6000" spc="-1" strike="noStrike">
                <a:solidFill>
                  <a:srgbClr val="63032c"/>
                </a:solidFill>
                <a:latin typeface="Garamond"/>
              </a:rPr>
              <a:t>    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666960" y="224172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33"/>
                </a:solidFill>
                <a:latin typeface="Garamond"/>
              </a:rPr>
              <a:t>Is this a spider or an insect?</a:t>
            </a:r>
            <a:endParaRPr b="0" lang="en-US" sz="5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633"/>
                </a:solidFill>
                <a:latin typeface="Arial"/>
              </a:rPr>
              <a:t>Click on the Right Answ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6019920" y="3200400"/>
            <a:ext cx="11998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Insect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019920" y="4572000"/>
            <a:ext cx="12380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pider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609480" y="1295280"/>
            <a:ext cx="4405320" cy="518184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8" dur="1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aramond"/>
              </a:rPr>
              <a:t>Correct !!!</a:t>
            </a:r>
            <a:r>
              <a:rPr b="0" lang="en-US" sz="6000" spc="-1" strike="noStrike">
                <a:solidFill>
                  <a:srgbClr val="63032c"/>
                </a:solidFill>
                <a:latin typeface="Garamond"/>
              </a:rPr>
              <a:t>    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33922" t="0" r="0" b="6360"/>
          <a:stretch/>
        </p:blipFill>
        <p:spPr>
          <a:xfrm>
            <a:off x="1447920" y="1143000"/>
            <a:ext cx="6248160" cy="49896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086600" y="5791320"/>
            <a:ext cx="1722600" cy="72216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4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4" dur="1" fill="hold"/>
                                        <p:tgtEl>
                                          <p:spTgt spid="1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9" presetSubtype="1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aramond"/>
              </a:rPr>
              <a:t>Try Again </a:t>
            </a:r>
            <a:r>
              <a:rPr b="0" lang="en-US" sz="6000" spc="-1" strike="noStrike">
                <a:solidFill>
                  <a:srgbClr val="63032c"/>
                </a:solidFill>
                <a:latin typeface="Garamond"/>
              </a:rPr>
              <a:t>    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5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666960" y="224172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33"/>
                </a:solidFill>
                <a:latin typeface="Garamond"/>
              </a:rPr>
              <a:t>Is this a spider or an insect?</a:t>
            </a:r>
            <a:endParaRPr b="0" lang="en-US" sz="5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633"/>
                </a:solidFill>
                <a:latin typeface="Arial"/>
              </a:rPr>
              <a:t>Click on the Right Answ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019920" y="3200400"/>
            <a:ext cx="11998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Insect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6019920" y="4572000"/>
            <a:ext cx="12380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pider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071720" y="1219320"/>
            <a:ext cx="4006800" cy="40748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4" dur="1" fill="hold"/>
                                        <p:tgtEl>
                                          <p:spTgt spid="1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aramond"/>
              </a:rPr>
              <a:t>Correct !!!</a:t>
            </a:r>
            <a:r>
              <a:rPr b="0" lang="en-US" sz="6000" spc="-1" strike="noStrike">
                <a:solidFill>
                  <a:srgbClr val="63032c"/>
                </a:solidFill>
                <a:latin typeface="Garamond"/>
              </a:rPr>
              <a:t>    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rcRect l="33922" t="0" r="0" b="6360"/>
          <a:stretch/>
        </p:blipFill>
        <p:spPr>
          <a:xfrm>
            <a:off x="1447920" y="1143000"/>
            <a:ext cx="6248160" cy="49896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6934320" y="5791320"/>
            <a:ext cx="1974600" cy="82692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0" dur="1" fill="hold"/>
                                        <p:tgtEl>
                                          <p:spTgt spid="1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9" presetSubtype="1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6633"/>
                </a:solidFill>
                <a:latin typeface="Garamond"/>
              </a:rPr>
              <a:t>What are they?</a:t>
            </a:r>
            <a:endParaRPr b="0" lang="en-US" sz="7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at kind of bugs are in the building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ok at the pictures and tell us if they are insects or spider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t the end, tell us which man we need to hire to get rid of the bug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086600" y="5791320"/>
            <a:ext cx="1752480" cy="7347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aramond"/>
              </a:rPr>
              <a:t>Try Again </a:t>
            </a:r>
            <a:r>
              <a:rPr b="0" lang="en-US" sz="6000" spc="-1" strike="noStrike">
                <a:solidFill>
                  <a:srgbClr val="63032c"/>
                </a:solidFill>
                <a:latin typeface="Garamond"/>
              </a:rPr>
              <a:t>    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3666960" y="224172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Do we want the insect man </a:t>
            </a:r>
            <a:br>
              <a:rPr sz="3800"/>
            </a:b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or the spider man?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4648320" y="1599840"/>
            <a:ext cx="4038480" cy="453060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457200" y="1599840"/>
            <a:ext cx="4038480" cy="45306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5720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4724280" y="5257800"/>
            <a:ext cx="3886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Spider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7397640" y="48798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5"/>
          <a:stretch/>
        </p:blipFill>
        <p:spPr>
          <a:xfrm>
            <a:off x="457200" y="1600200"/>
            <a:ext cx="4038480" cy="45720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46280" y="5294160"/>
            <a:ext cx="3292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914400" y="5181480"/>
            <a:ext cx="2895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Insect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6"/>
          <a:stretch/>
        </p:blipFill>
        <p:spPr>
          <a:xfrm>
            <a:off x="3505320" y="5257800"/>
            <a:ext cx="1119240" cy="111924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7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" dur="1" fill="hold"/>
                                        <p:tgtEl>
                                          <p:spTgt spid="1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aramond"/>
              </a:rPr>
              <a:t>Try Again </a:t>
            </a:r>
            <a:r>
              <a:rPr b="0" lang="en-US" sz="6000" spc="-1" strike="noStrike">
                <a:solidFill>
                  <a:srgbClr val="63032c"/>
                </a:solidFill>
                <a:latin typeface="Garamond"/>
              </a:rPr>
              <a:t>    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3505320" y="220968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676520" y="4495680"/>
            <a:ext cx="4952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Arial"/>
              </a:rPr>
              <a:t>PARTY !!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203480" y="2322360"/>
            <a:ext cx="3520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971880" y="2209680"/>
            <a:ext cx="410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Arial"/>
              </a:rPr>
              <a:t>PARTY</a:t>
            </a: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 !!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974880" y="493560"/>
            <a:ext cx="298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69960" y="341280"/>
            <a:ext cx="306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990720" y="762120"/>
            <a:ext cx="411480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PARTY !!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33"/>
                </a:solidFill>
                <a:latin typeface="Garamond"/>
              </a:rPr>
              <a:t>Is this a spider or an insect?</a:t>
            </a:r>
            <a:endParaRPr b="0" lang="en-US" sz="5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633"/>
                </a:solidFill>
                <a:latin typeface="Arial"/>
              </a:rPr>
              <a:t>Click on the Right Answ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57200" y="2133720"/>
            <a:ext cx="4343400" cy="3348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6019920" y="3200400"/>
            <a:ext cx="11998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Insect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019920" y="4572000"/>
            <a:ext cx="12380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pider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aramond"/>
              </a:rPr>
              <a:t>Correct !!!</a:t>
            </a:r>
            <a:r>
              <a:rPr b="0" lang="en-US" sz="6000" spc="-1" strike="noStrike">
                <a:solidFill>
                  <a:srgbClr val="63032c"/>
                </a:solidFill>
                <a:latin typeface="Garamond"/>
              </a:rPr>
              <a:t>    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33922" t="0" r="0" b="6360"/>
          <a:stretch/>
        </p:blipFill>
        <p:spPr>
          <a:xfrm>
            <a:off x="1447920" y="1143000"/>
            <a:ext cx="6248160" cy="49896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162920" y="5791320"/>
            <a:ext cx="1771560" cy="742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9" presetSubtype="1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aramond"/>
              </a:rPr>
              <a:t>Try Again </a:t>
            </a:r>
            <a:r>
              <a:rPr b="0" lang="en-US" sz="6000" spc="-1" strike="noStrike">
                <a:solidFill>
                  <a:srgbClr val="63032c"/>
                </a:solidFill>
                <a:latin typeface="Garamond"/>
              </a:rPr>
              <a:t>    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505320" y="220968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33"/>
                </a:solidFill>
                <a:latin typeface="Garamond"/>
              </a:rPr>
              <a:t>Is this a spider or an insect?</a:t>
            </a:r>
            <a:endParaRPr b="0" lang="en-US" sz="5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633"/>
                </a:solidFill>
                <a:latin typeface="Arial"/>
              </a:rPr>
              <a:t>Click on the Right Answ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019920" y="3200400"/>
            <a:ext cx="11998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Insect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019920" y="4572000"/>
            <a:ext cx="12380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pider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57200" y="1981080"/>
            <a:ext cx="4876920" cy="32482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" dur="1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aramond"/>
              </a:rPr>
              <a:t>Correct !!!</a:t>
            </a:r>
            <a:r>
              <a:rPr b="0" lang="en-US" sz="6000" spc="-1" strike="noStrike">
                <a:solidFill>
                  <a:srgbClr val="63032c"/>
                </a:solidFill>
                <a:latin typeface="Garamond"/>
              </a:rPr>
              <a:t>    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rcRect l="33922" t="0" r="0" b="6360"/>
          <a:stretch/>
        </p:blipFill>
        <p:spPr>
          <a:xfrm>
            <a:off x="1447920" y="1143000"/>
            <a:ext cx="6248160" cy="49896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162920" y="5791320"/>
            <a:ext cx="1751040" cy="7347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" dur="1" fill="hold"/>
                                        <p:tgtEl>
                                          <p:spTgt spid="1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9" presetSubtype="1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aramond"/>
              </a:rPr>
              <a:t>Try Again </a:t>
            </a:r>
            <a:r>
              <a:rPr b="0" lang="en-US" sz="6000" spc="-1" strike="noStrike">
                <a:solidFill>
                  <a:srgbClr val="63032c"/>
                </a:solidFill>
                <a:latin typeface="Garamond"/>
              </a:rPr>
              <a:t>    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666960" y="224172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33"/>
                </a:solidFill>
                <a:latin typeface="Garamond"/>
              </a:rPr>
              <a:t>Is this a spider or an insect?</a:t>
            </a:r>
            <a:endParaRPr b="0" lang="en-US" sz="5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633"/>
                </a:solidFill>
                <a:latin typeface="Arial"/>
              </a:rPr>
              <a:t>Click on the Right Answ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019920" y="3200400"/>
            <a:ext cx="11998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Insect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019920" y="4572000"/>
            <a:ext cx="12380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pider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33520" y="2133720"/>
            <a:ext cx="4902120" cy="32734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" dur="1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8T19:47:01Z</dcterms:created>
  <dc:creator>rpruneda</dc:creator>
  <dc:description/>
  <dc:language>en-US</dc:language>
  <cp:lastModifiedBy>rpruneda</cp:lastModifiedBy>
  <dcterms:modified xsi:type="dcterms:W3CDTF">2011-04-19T16:54:06Z</dcterms:modified>
  <cp:revision>46</cp:revision>
  <dc:subject/>
  <dc:title>Is this a spider or an insect?</dc:title>
</cp:coreProperties>
</file>